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D237-F689-47BD-925D-CC13462D805E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2B7A-6858-4775-B371-5E3FE28BDE4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2F29-3868-41DC-B2EA-97A1129DDC37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EE7-4BD1-4A33-B638-FB3A4C9E1EEC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4B77-3C7C-4F0C-B134-50B524E1DFC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8640-45FE-4A80-9229-FB4197B8F94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3F2F-C009-4833-9FEB-658478ED767B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F4B6-FDF4-49E5-B80D-9FB57348A927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FC1-7057-4888-B3EB-429E23D7477A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6454-A417-40F6-83D7-B04190C6F84F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DE9-0FF1-4A2D-8CAD-3C64D99F1530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3803-1F57-425C-A819-2283EF8AA11A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E834-D307-48B4-B3A7-6A027F2D574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E1A0-9128-4829-9C72-6C718F721FBC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D653-B2C4-4481-9E40-F332AA791A46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5854-3216-4F21-9B4B-063129421603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6BB7-A371-4B35-BA60-D566654F49BB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CA9D-8779-4AFB-882E-24D6E2F1094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2FF5-2A6A-48DC-AA8B-615722B27153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2BC8-398A-4D5E-A706-5CD247622CC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815-43B8-4EDB-ACB8-9205D6F753E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D09-C9FB-454D-A43B-D3BA7AB2A11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2B32-1D35-4383-A758-FBDC5C5058F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AA73-7C51-40AC-BA50-42598FABD7AB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7003-9126-4916-AD1E-E5888933BA8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9798-EA4B-4AFF-AC99-D040089D521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E87-1596-4444-9621-89980F06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9F8-F8F3-4227-836C-AD3E458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B8C-F1F8-442D-B22D-12DE4054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B36-E14F-45EF-9B54-2A83AA6B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58D7-FBD6-4D99-A059-D05FD966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F858-C822-498A-9EC8-81D66A6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19D-063F-4B87-93D4-B4C980E5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BA41-65A0-49B5-A09F-36BDBD14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BB86-EEB7-4919-AB11-CEE09BBB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E633-83B4-4DEF-8D1B-6B0F4CA9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00D7-B1C4-42C2-903C-AC7059C6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228-94E0-457D-8D66-F64955B0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2B16-D07C-4251-9174-2B9E3B79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7842-B749-43F1-B419-5CC8769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C2BF-7E83-4772-B2AE-54F2A3B0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0471-2651-44BF-94DC-B24FF8D4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8AB2-11CD-4022-9570-BF0C7078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080-5D92-4D4C-B047-1881B006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985-47D7-4722-B442-8A541848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629-4C09-4A8D-92EF-66C4BCC8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B48-0B27-49DB-8C4D-E7F68DB4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D0C-669C-432F-931D-ED47D314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8A0-E798-4993-9977-AB8F08B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F1F-330E-4CF3-A63B-A8FE8B74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BAB2-6084-491D-9FC8-4E3997D28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E312-6710-4FE6-9E1E-1BC06BBD0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33520" y="4226040"/>
            <a:ext cx="8076960" cy="2257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Times New Roman"/>
              </a:rPr>
              <a:t>Dr. Joan Monés X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Gastroenteròleg.  Hospital de la Santa Creu i San P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Professor Titular Medicina i de Bioètica  U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(Jubilat des de Desembre del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Comissió de Deontologia.  Col·legi de Metges de Barcel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Comisión de Deontología.  Organización Médica Colegial (OM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Text Box 5"/>
          <p:cNvGrpSpPr/>
          <p:nvPr/>
        </p:nvGrpSpPr>
        <p:grpSpPr>
          <a:xfrm>
            <a:off x="798480" y="615960"/>
            <a:ext cx="7523280" cy="2311560"/>
            <a:chOff x="798480" y="615960"/>
            <a:chExt cx="7523280" cy="2311560"/>
          </a:xfrm>
        </p:grpSpPr>
        <p:pic>
          <p:nvPicPr>
            <p:cNvPr id="92" name="Text Box 5" descr=""/>
            <p:cNvPicPr/>
            <p:nvPr/>
          </p:nvPicPr>
          <p:blipFill>
            <a:blip r:embed="rId2"/>
            <a:stretch/>
          </p:blipFill>
          <p:spPr>
            <a:xfrm>
              <a:off x="798480" y="615960"/>
              <a:ext cx="752184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98480" y="615960"/>
              <a:ext cx="75232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ació de la assignatura de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oètica i comunicació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nàmica de les pràctiques d’aul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90440" y="2232000"/>
            <a:ext cx="8763120" cy="24703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Arial"/>
              </a:rPr>
              <a:t>	</a:t>
            </a:r>
            <a:r>
              <a:rPr b="1" lang="ca-E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ca-E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es d´Ètica Mèdica o Codi de Deont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9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fffff9"/>
                </a:solidFill>
                <a:latin typeface="Arial"/>
              </a:rPr>
              <a:t>-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Son l´instrument normatiu de les actituds i els comporta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exigibles als metges en el  exercici de llur professió, sobre tot 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relació amb els seus pac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63960" y="5110200"/>
            <a:ext cx="8604000" cy="1400760"/>
            <a:chOff x="363960" y="5110200"/>
            <a:chExt cx="8604000" cy="1400760"/>
          </a:xfrm>
        </p:grpSpPr>
        <p:sp>
          <p:nvSpPr>
            <p:cNvPr id="187" name="Text Box 5"/>
            <p:cNvSpPr/>
            <p:nvPr/>
          </p:nvSpPr>
          <p:spPr>
            <a:xfrm>
              <a:off x="4659480" y="5110200"/>
              <a:ext cx="4308480" cy="140076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*  </a:t>
              </a:r>
              <a:r>
                <a:rPr b="1" lang="en-US" sz="22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Entre s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* Amb la institució de trebal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* Amb la corporació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 flipV="1">
              <a:off x="3905280" y="5246640"/>
              <a:ext cx="666720" cy="40968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>
              <a:off x="3917880" y="5751360"/>
              <a:ext cx="666720" cy="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3905280" y="5846760"/>
              <a:ext cx="666720" cy="31428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363960" y="5349960"/>
              <a:ext cx="2986560" cy="82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egulen les relac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dels met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3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500280" y="1360440"/>
            <a:ext cx="2141640" cy="520560"/>
          </a:xfrm>
          <a:prstGeom prst="rect">
            <a:avLst/>
          </a:prstGeom>
          <a:solidFill>
            <a:srgbClr val="0e0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ce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62080" y="1998720"/>
            <a:ext cx="5101920" cy="46782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Arial"/>
              </a:rPr>
              <a:t>	</a:t>
            </a:r>
            <a:r>
              <a:rPr b="1" lang="ca-E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es d´Ètica Mèdica 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ca-E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di de Deontolo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9"/>
                </a:solidFill>
                <a:latin typeface="Times New Roman"/>
                <a:ea typeface="Times New Roman"/>
              </a:rPr>
              <a:t>-</a:t>
            </a:r>
            <a:r>
              <a:rPr b="1" lang="ca-ES" sz="24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  <a:ea typeface="Times New Roman"/>
              </a:rPr>
              <a:t>L’any 1997 es va aprovar en assemblea general el Codi de Deontologia pels metges cata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  <a:ea typeface="Times New Roman"/>
              </a:rPr>
              <a:t> </a:t>
            </a:r>
            <a:r>
              <a:rPr b="1" lang="ca-ES" sz="2800" spc="-1" strike="noStrike">
                <a:solidFill>
                  <a:srgbClr val="fffff9"/>
                </a:solidFill>
                <a:latin typeface="Times New Roman"/>
                <a:ea typeface="Times New Roman"/>
              </a:rPr>
              <a:t>-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  <a:ea typeface="Times New Roman"/>
              </a:rPr>
              <a:t>l’any 2005 es va fer una actualització del Codi, per adaptar-se a l’evolució de la medicina, la tecnologia i  les noves corrents soc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3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mones2"/>
          <p:cNvPicPr/>
          <p:nvPr/>
        </p:nvPicPr>
        <p:blipFill>
          <a:blip r:embed="rId1"/>
          <a:stretch/>
        </p:blipFill>
        <p:spPr>
          <a:xfrm>
            <a:off x="5605560" y="4289400"/>
            <a:ext cx="3062160" cy="24876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91658" dir="2017659" blurRad="0" rotWithShape="0">
              <a:srgbClr val="000000"/>
            </a:outerShdw>
          </a:effectLst>
        </p:spPr>
      </p:pic>
      <p:pic>
        <p:nvPicPr>
          <p:cNvPr id="199" name="Picture 6" descr="mones1"/>
          <p:cNvPicPr/>
          <p:nvPr/>
        </p:nvPicPr>
        <p:blipFill>
          <a:blip r:embed="rId2"/>
          <a:stretch/>
        </p:blipFill>
        <p:spPr>
          <a:xfrm>
            <a:off x="5597640" y="1952640"/>
            <a:ext cx="3047760" cy="224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</p:pic>
      <p:sp>
        <p:nvSpPr>
          <p:cNvPr id="200" name="Text Box 3"/>
          <p:cNvSpPr/>
          <p:nvPr/>
        </p:nvSpPr>
        <p:spPr>
          <a:xfrm>
            <a:off x="3500280" y="1360440"/>
            <a:ext cx="2141640" cy="520560"/>
          </a:xfrm>
          <a:prstGeom prst="rect">
            <a:avLst/>
          </a:prstGeom>
          <a:solidFill>
            <a:srgbClr val="0e0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ce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8"/>
          <p:cNvSpPr/>
          <p:nvPr/>
        </p:nvSpPr>
        <p:spPr>
          <a:xfrm>
            <a:off x="76320" y="1508040"/>
            <a:ext cx="8991360" cy="21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l metge ha de tenir present que l’objectiu de l’exercici de la medicina </a:t>
            </a:r>
            <a:r>
              <a:rPr b="1" i="1" lang="en-US" sz="2000" spc="-1" strike="noStrike">
                <a:solidFill>
                  <a:srgbClr val="ccffff"/>
                </a:solidFill>
                <a:latin typeface="Times New Roman"/>
              </a:rPr>
              <a:t>és promoure, mantenir o restablir la salut individual i col·lectiva de les persones, i ha de considerar que la salut no és solament l’absència de malaltia sinó també el conjunt de condicions físiques, psíquiques i socials que permeten la màxima plenitud de la persona, per tal que aquesta es pugui desenvolupar de manera autòno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4920" y="4064040"/>
            <a:ext cx="9059760" cy="26542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etge ha de tenir present que l’objectiu de l’exercici de la medicina és promoure, mantenir o restablir la salut individual i col·lectiva de les persones, i ha de considerar que la salut no és solament l’absència de la malaltia sinó també el conjunt de condicions físiques, psíquiques i socials que permeten la màxima plenitud de la persona, per tal que aquesta es pugui desenvolupar de manera autònoma. </a:t>
            </a:r>
            <a:r>
              <a:rPr b="1" i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També ha d’alleugerir el dolor i el patiment causats per la malaltia i ha de tenir cura dels que no poden ser guarits.</a:t>
            </a:r>
            <a:r>
              <a:rPr b="1" i="1" lang="en-US" sz="20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-3636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9 CuadroTexto"/>
          <p:cNvSpPr/>
          <p:nvPr/>
        </p:nvSpPr>
        <p:spPr>
          <a:xfrm>
            <a:off x="636480" y="396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77040" y="981000"/>
            <a:ext cx="50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 1ª. Codi de Deontologia any 199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2 CuadroTexto"/>
          <p:cNvSpPr/>
          <p:nvPr/>
        </p:nvSpPr>
        <p:spPr>
          <a:xfrm>
            <a:off x="166680" y="3532320"/>
            <a:ext cx="50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 1ª. Codi de Deontologia an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380880" y="1633680"/>
            <a:ext cx="8353440" cy="1373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ls metges, que són un dels principals agents de la preservació de la salut, han de vetllar per la qualitat i l’eficiència de la pràctica mèdica, principal eina per a la promoció i defensa d’aque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80880" y="3784680"/>
            <a:ext cx="8353440" cy="27075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 metges, que són un dels principals agents de la preservació de la salut, han de vetllar per la qualitat i l’eficiència de la pràctica mèdica, principal eina per a la promoció, la defensa </a:t>
            </a:r>
            <a:r>
              <a:rPr b="1" i="1" lang="en-US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i el restabliment de la salut.</a:t>
            </a:r>
            <a:r>
              <a:rPr b="1" i="1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És per aquest motiu que la formació mèdica continuada és un deure ètic, un dret i una responsabilitat de tots els metges al llarg de la seva vida professional.</a:t>
            </a:r>
            <a:r>
              <a:rPr b="1" i="1" lang="en-US" sz="2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7 CuadroTexto"/>
          <p:cNvSpPr/>
          <p:nvPr/>
        </p:nvSpPr>
        <p:spPr>
          <a:xfrm>
            <a:off x="311040" y="981000"/>
            <a:ext cx="50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 2ª. Codi de Deontologia any 199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9 CuadroTexto"/>
          <p:cNvSpPr/>
          <p:nvPr/>
        </p:nvSpPr>
        <p:spPr>
          <a:xfrm>
            <a:off x="365040" y="3244680"/>
            <a:ext cx="50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 2ª. Codi de Deontologia an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1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5"/>
          <p:cNvSpPr/>
          <p:nvPr/>
        </p:nvSpPr>
        <p:spPr>
          <a:xfrm>
            <a:off x="411120" y="1866960"/>
            <a:ext cx="8315280" cy="45493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etge ha d’informar el pacient de les alteracions que pateix i del pronòstic de la malaltia de manera</a:t>
            </a:r>
            <a:r>
              <a:rPr b="1" i="1" lang="ca-E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ca-ES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entenedora, verídica, mesurada, discreta, prudent i esperançadora.</a:t>
            </a:r>
            <a:r>
              <a:rPr b="1" i="1" lang="ca-E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 es tracti de malalties de mal  pronòstic  el metge ha de procurar igualment informar el pacient, i ha de plantejar-se com aconseguir que tant la mateixa informació com la manera de donar-la no el perjudiquin. El metge ha de respectar el dret del malalt a no ser informat.</a:t>
            </a:r>
            <a:r>
              <a:rPr b="1" i="1" lang="ca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7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8 CuadroTexto"/>
          <p:cNvSpPr/>
          <p:nvPr/>
        </p:nvSpPr>
        <p:spPr>
          <a:xfrm>
            <a:off x="426600" y="1197000"/>
            <a:ext cx="506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 24. Codi de Deontologia an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0920" y="1968480"/>
            <a:ext cx="8642160" cy="46400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Pacient de 30 anys amb antecedents de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cesària prèv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Ingressa a clínica per un part program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Degut a que la pacient presentava desproporció  pelvi – cefàlica 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decideix practicar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una nova cesà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La cesària va ser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molt dificultosa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per cicatrització patològica de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cesària anterior amb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presència de molta fibr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Amb ajuda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d’un cirurgià general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procedeixen a la intervenció a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l’extracció del fetus sense proble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l ginecòleg va decidir practicar lligadura de trompes (degut al 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risc de nous embarassos, tant per la mare com pels futurs fill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4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5 CuadroTexto"/>
          <p:cNvGrpSpPr/>
          <p:nvPr/>
        </p:nvGrpSpPr>
        <p:grpSpPr>
          <a:xfrm>
            <a:off x="2395440" y="1152360"/>
            <a:ext cx="4353120" cy="554040"/>
            <a:chOff x="2395440" y="1152360"/>
            <a:chExt cx="4353120" cy="554040"/>
          </a:xfrm>
        </p:grpSpPr>
        <p:pic>
          <p:nvPicPr>
            <p:cNvPr id="221" name="5 CuadroTexto" descr=""/>
            <p:cNvPicPr/>
            <p:nvPr/>
          </p:nvPicPr>
          <p:blipFill>
            <a:blip r:embed="rId1"/>
            <a:stretch/>
          </p:blipFill>
          <p:spPr>
            <a:xfrm>
              <a:off x="2395440" y="1152360"/>
              <a:ext cx="4353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420280" y="1166760"/>
              <a:ext cx="430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títol d’exemple. Cas re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89080" y="1825560"/>
            <a:ext cx="8567640" cy="41158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ginecòleg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durant la intervenció no va sortir del quiròfan 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explicar i informar de la situació al mar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A més el ginecòleg no va complimentar el full operatori,  ja que 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decidir que ho faria l’endemà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L’endemà, que era dissabte, va informar correctament a la pacient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al seu marit de la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realització de lligadura de trompes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, però no 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complimentar el full operatori per obl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La pacient va sortir d’alta als 4 dies,  sense incidències  desta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l neonat també en bon est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6 CuadroTexto"/>
          <p:cNvGrpSpPr/>
          <p:nvPr/>
        </p:nvGrpSpPr>
        <p:grpSpPr>
          <a:xfrm>
            <a:off x="2438280" y="1152360"/>
            <a:ext cx="4267440" cy="554040"/>
            <a:chOff x="2438280" y="1152360"/>
            <a:chExt cx="4267440" cy="554040"/>
          </a:xfrm>
        </p:grpSpPr>
        <p:pic>
          <p:nvPicPr>
            <p:cNvPr id="227" name="6 CuadroTexto" descr=""/>
            <p:cNvPicPr/>
            <p:nvPr/>
          </p:nvPicPr>
          <p:blipFill>
            <a:blip r:embed="rId1"/>
            <a:stretch/>
          </p:blipFill>
          <p:spPr>
            <a:xfrm>
              <a:off x="2438280" y="1152360"/>
              <a:ext cx="4267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464560" y="1166760"/>
              <a:ext cx="42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títol d’exemple. Cas re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1 CuadroTexto"/>
          <p:cNvSpPr/>
          <p:nvPr/>
        </p:nvSpPr>
        <p:spPr>
          <a:xfrm>
            <a:off x="7368480" y="6068880"/>
            <a:ext cx="1093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Per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43120" y="2508120"/>
            <a:ext cx="7478640" cy="31122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pacient va presentar una denuncia contra el met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inecòleg,  per defecte d’informació  i pràctica d’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cediment no autoritz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la Comissió de Deontologia del Col·legi de Met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 jutja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6 CuadroTexto"/>
          <p:cNvGrpSpPr/>
          <p:nvPr/>
        </p:nvGrpSpPr>
        <p:grpSpPr>
          <a:xfrm>
            <a:off x="2438280" y="1152360"/>
            <a:ext cx="4267440" cy="554040"/>
            <a:chOff x="2438280" y="1152360"/>
            <a:chExt cx="4267440" cy="554040"/>
          </a:xfrm>
        </p:grpSpPr>
        <p:pic>
          <p:nvPicPr>
            <p:cNvPr id="234" name="6 CuadroTexto" descr=""/>
            <p:cNvPicPr/>
            <p:nvPr/>
          </p:nvPicPr>
          <p:blipFill>
            <a:blip r:embed="rId1"/>
            <a:stretch/>
          </p:blipFill>
          <p:spPr>
            <a:xfrm>
              <a:off x="2438280" y="1152360"/>
              <a:ext cx="4267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464560" y="1166760"/>
              <a:ext cx="42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 títol d’exemple. Cas re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08000" y="2211480"/>
            <a:ext cx="8964720" cy="4132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isteix una </a:t>
            </a:r>
            <a:r>
              <a:rPr b="1" lang="en-US" sz="2200" spc="-1" strike="noStrike">
                <a:solidFill>
                  <a:srgbClr val="99ff99"/>
                </a:solidFill>
                <a:latin typeface="Times New Roman"/>
              </a:rPr>
              <a:t>manca de consentimen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’una intervenció que supo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l’esterilització de la paci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algrat que la intervenció va ser més traumàtica del que és habitu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99ff99"/>
                </a:solidFill>
                <a:latin typeface="Times New Roman"/>
              </a:rPr>
              <a:t>el ginecòleg havia d’haver sol·licitat permís al mari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 la pacien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bans de prendre la decisió de la lligadura de tromp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na altra circumstància que dificulta molt la defensa a l’àm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judicial , és la </a:t>
            </a:r>
            <a:r>
              <a:rPr b="1" lang="en-US" sz="2200" spc="-1" strike="noStrike">
                <a:solidFill>
                  <a:srgbClr val="99ff99"/>
                </a:solidFill>
                <a:latin typeface="Times New Roman"/>
              </a:rPr>
              <a:t>manca de documentació quirúrgica (full operatori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que no es va complimentar per obl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702520" y="1285920"/>
            <a:ext cx="36644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Times New Roman"/>
              </a:rPr>
              <a:t>Valoració mèdic -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08000" y="2060640"/>
            <a:ext cx="8928000" cy="43369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s del punt de vista ètic,  el ginecòleg va transgredir les segü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normes de deontolog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Norma 21 .-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El metge ha de referir en una </a:t>
            </a:r>
            <a:r>
              <a:rPr b="1" i="1" lang="en-US" sz="2200" spc="-1" strike="noStrike">
                <a:solidFill>
                  <a:srgbClr val="92d050"/>
                </a:solidFill>
                <a:latin typeface="Times New Roman"/>
              </a:rPr>
              <a:t>història mèdica individualit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2d050"/>
                </a:solidFill>
                <a:latin typeface="Times New Roman"/>
              </a:rPr>
              <a:t>totes les activitats professionals amb els pacients</a:t>
            </a:r>
            <a:r>
              <a:rPr b="1" i="1" lang="en-US" sz="2200" spc="-1" strike="noStrike">
                <a:solidFill>
                  <a:srgbClr val="ccffc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tant per guardar memòria de la seva actuació com per facilitar-ne el possible seguiment per part d’altres col·legues, estant obligat a extremar el rigor del seu conting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Norma 22 .- </a:t>
            </a:r>
            <a:r>
              <a:rPr b="1" i="1" lang="en-US" sz="2200" spc="-1" strike="noStrike">
                <a:solidFill>
                  <a:srgbClr val="92d050"/>
                </a:solidFill>
                <a:latin typeface="Times New Roman"/>
              </a:rPr>
              <a:t>El metge té el deure de donar al pacient la màxima informaci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2d050"/>
                </a:solidFill>
                <a:latin typeface="Times New Roman"/>
              </a:rPr>
              <a:t>possible</a:t>
            </a:r>
            <a:r>
              <a:rPr b="1" i="1" lang="en-US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sobre el seu estat de salut, els passos diagnòstics, les explorac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complementàries i els tractaments.... </a:t>
            </a:r>
            <a:r>
              <a:rPr b="1" i="1" lang="en-US" sz="2200" spc="-1" strike="noStrike">
                <a:solidFill>
                  <a:srgbClr val="ccff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466640" y="1251000"/>
            <a:ext cx="6218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Times New Roman"/>
              </a:rPr>
              <a:t>Consideracions ètiques i deontolò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Rectángulo"/>
          <p:cNvSpPr/>
          <p:nvPr/>
        </p:nvSpPr>
        <p:spPr>
          <a:xfrm>
            <a:off x="311040" y="1968480"/>
            <a:ext cx="8533080" cy="44510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L'ètica general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ix els criteris per jutjar si una acció és bona o dolenta i per jutjar els motius i les conseqüències d'un ac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L'ètica descriptiva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a de relleu el que la majoria de la gent creu que és correcte o incorrecte, mentre </a:t>
            </a:r>
            <a:r>
              <a:rPr b="1" lang="ca-ES" sz="2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l'ètica normativa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a l'accent en descriure el que les persones haurien de considerar bo o dol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inalitat de l'ètica fa doncs d'ella mateixa una activitat pràct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</a:t>
            </a:r>
            <a:r>
              <a:rPr b="1" lang="ca-ES" sz="2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La bioètica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la branca de l'ètica que aspira a proveir els principis orientadors de la conducta humana en el camp biomèdic. Etimològicament prové del grec «bios» i «ethos»: </a:t>
            </a:r>
            <a:r>
              <a:rPr b="1" lang="ca-ES" sz="2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«ètica de la vida, la ètica aplicada a la vida humana i no humana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CuadroTexto"/>
          <p:cNvSpPr/>
          <p:nvPr/>
        </p:nvSpPr>
        <p:spPr>
          <a:xfrm>
            <a:off x="924480" y="1060560"/>
            <a:ext cx="7297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Ètica general, descriptiva i normativa. Bioè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50000">
              <a:srgbClr val="003399"/>
            </a:gs>
            <a:gs pos="100000">
              <a:srgbClr val="00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50760" y="1913040"/>
            <a:ext cx="9036000" cy="44359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Norma 25 .- </a:t>
            </a:r>
            <a:r>
              <a:rPr b="1" i="1" lang="en-US" sz="2200" spc="-1" strike="noStrike">
                <a:solidFill>
                  <a:srgbClr val="92d050"/>
                </a:solidFill>
                <a:latin typeface="Times New Roman"/>
              </a:rPr>
              <a:t>El metge informarà les persones vinculades al pacient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, qu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aquest així ho autoritzi o quan el metge intueixi que no hi ha la possibilit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d’una comprensió lúcida per part del pac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I   SOBRE TO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Norma 59? .- </a:t>
            </a:r>
            <a:r>
              <a:rPr b="1" i="1" lang="en-US" sz="2200" spc="-1" strike="noStrike">
                <a:solidFill>
                  <a:srgbClr val="92d050"/>
                </a:solidFill>
                <a:latin typeface="Times New Roman"/>
              </a:rPr>
              <a:t>El metge no practicarà mai cap interrupció d’embaràs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2d050"/>
                </a:solidFill>
                <a:latin typeface="Times New Roman"/>
              </a:rPr>
              <a:t>esterilització sense el consentiment lliure i explícit del pacient</a:t>
            </a:r>
            <a:r>
              <a:rPr b="1" i="1" lang="en-US" sz="2200" spc="-1" strike="noStrike">
                <a:solidFill>
                  <a:srgbClr val="ccffcc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donat desprè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d’una acurada informació, en especial quan aquest sigui menor, però a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capacitat per comprendre allò en què consent. Quan no hi hagi aq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capacitat, caldrà el consentiment de les persones vinculades respons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463400" y="1251000"/>
            <a:ext cx="6218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Times New Roman"/>
              </a:rPr>
              <a:t>Consideracions ètiques i deontolò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79280" y="1916280"/>
            <a:ext cx="8712360" cy="46638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Antecedents de la bioètica. Principis generals i bàsics de la bioètica.  Ètica de míni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Drets humans i drets del pac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Relació metge-pacient.  Informació clín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Humanització de la Medic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ls Comitès  d’Ètica  Assistencials (CEA) en els hospit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Qualitat de vida i sal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Actuació ètica davant un pacient terminal.  Sedaci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Costos de la sanitat i prioritats mèd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Deontologia mèdica.  Codi de Deontologia (3 class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6 CuadroTexto"/>
          <p:cNvGrpSpPr/>
          <p:nvPr/>
        </p:nvGrpSpPr>
        <p:grpSpPr>
          <a:xfrm>
            <a:off x="3206880" y="1152360"/>
            <a:ext cx="2730240" cy="554040"/>
            <a:chOff x="3206880" y="1152360"/>
            <a:chExt cx="2730240" cy="554040"/>
          </a:xfrm>
        </p:grpSpPr>
        <p:pic>
          <p:nvPicPr>
            <p:cNvPr id="252" name="6 CuadroTexto" descr=""/>
            <p:cNvPicPr/>
            <p:nvPr/>
          </p:nvPicPr>
          <p:blipFill>
            <a:blip r:embed="rId1"/>
            <a:stretch/>
          </p:blipFill>
          <p:spPr>
            <a:xfrm>
              <a:off x="3206880" y="1152360"/>
              <a:ext cx="27302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234960" y="1166760"/>
              <a:ext cx="26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a teòr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24000" y="1881360"/>
            <a:ext cx="8485200" cy="47959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Coresponsabilitat del pacient en les decisions mèd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Consentiment inform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Autonomia del pacient.  Voluntats anticip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Telemedicina.  Medicina i inter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rror i negligència mèdiques.  Diferències mes import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l secret mèdic.  Aspectes conceptuals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l secret mèdic.  Aspectes pràc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Medicina transfus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Ètica,  Deontologia i Justí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Aspectes ètics de la investigac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statut del embrió.  Clonac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6 CuadroTexto"/>
          <p:cNvGrpSpPr/>
          <p:nvPr/>
        </p:nvGrpSpPr>
        <p:grpSpPr>
          <a:xfrm>
            <a:off x="3206880" y="1152360"/>
            <a:ext cx="2730240" cy="554040"/>
            <a:chOff x="3206880" y="1152360"/>
            <a:chExt cx="2730240" cy="554040"/>
          </a:xfrm>
        </p:grpSpPr>
        <p:pic>
          <p:nvPicPr>
            <p:cNvPr id="258" name="6 CuadroTexto" descr=""/>
            <p:cNvPicPr/>
            <p:nvPr/>
          </p:nvPicPr>
          <p:blipFill>
            <a:blip r:embed="rId1"/>
            <a:stretch/>
          </p:blipFill>
          <p:spPr>
            <a:xfrm>
              <a:off x="3206880" y="1152360"/>
              <a:ext cx="27302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234960" y="1166760"/>
              <a:ext cx="26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a teòr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324000" y="2865600"/>
            <a:ext cx="8485200" cy="24865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Les classes tindran una duració aproximada d’uns 45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L’examen final  serà en forma de «test»  de  respostes múltipl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5 possibilitats només una de c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La nota del examen teòric representa el 70% de la not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6 CuadroTexto"/>
          <p:cNvGrpSpPr/>
          <p:nvPr/>
        </p:nvGrpSpPr>
        <p:grpSpPr>
          <a:xfrm>
            <a:off x="3206880" y="1152360"/>
            <a:ext cx="2730240" cy="554040"/>
            <a:chOff x="3206880" y="1152360"/>
            <a:chExt cx="2730240" cy="554040"/>
          </a:xfrm>
        </p:grpSpPr>
        <p:pic>
          <p:nvPicPr>
            <p:cNvPr id="264" name="6 CuadroTexto" descr=""/>
            <p:cNvPicPr/>
            <p:nvPr/>
          </p:nvPicPr>
          <p:blipFill>
            <a:blip r:embed="rId1"/>
            <a:stretch/>
          </p:blipFill>
          <p:spPr>
            <a:xfrm>
              <a:off x="3206880" y="1152360"/>
              <a:ext cx="27302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234960" y="1166760"/>
              <a:ext cx="26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a teòr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24000" y="1878120"/>
            <a:ext cx="8485200" cy="46051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00"/>
                </a:solidFill>
                <a:latin typeface="Times New Roman"/>
              </a:rPr>
              <a:t>5 temes preparats i presentats pels alu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l secret profession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ció assist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nçament de la v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ia del pacient i objecció de conciència del met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final de la v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270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08000" y="2027160"/>
            <a:ext cx="8986680" cy="43912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 cadascun dels 6 grups de pràctiques (2 per cada grup de les classes teòriques),  es faran </a:t>
            </a:r>
            <a:r>
              <a:rPr b="1" lang="en-US" sz="2200" spc="-1" strike="noStrike">
                <a:solidFill>
                  <a:srgbClr val="92d050"/>
                </a:solidFill>
                <a:latin typeface="Times New Roman"/>
              </a:rPr>
              <a:t>5 subgrups de 11 alumn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adascun d’aquests subgrups presentarà un del temes de les pràctiques d’aula.  Es farà per sortei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 cada subgrup de 11 alumn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1 coordinador responsable (elegit pels alumnes de cada subgr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4 alumnes ponents, 2 presentaran el tema, 2 intervindran en el deb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6 alumnes que prepararan el debat, 2 el presentaran i 4 intervind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 el deb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276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44440" y="2211480"/>
            <a:ext cx="8640720" cy="41324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subgrups de 11 alumnes (a, b, c, d, 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a) els 11 primers alumnes per ordre alfabè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b)  del 12 al 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c)  del 24 al 35  .....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orteig del tema que correspondrà a cada subgrup. Es far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ui a les 19,15,  després de la presentació de la assignatura en 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up 3 i a la mateixa aula M5-007 i en  presència dels delega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l resultat servirà, per tots els diferents grup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282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47600" y="1889280"/>
            <a:ext cx="8856720" cy="46659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ordinador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l grup tindrà com a 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La distribució de la presentació entre els seus compan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  Introducció del tema (5 minu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  Dirigir la discussió final entre els ponents i presentadors del deb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 la resta de companys del grup. Resum final d’uns 5 min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  La nota del professor que estarà present serà la mateixa per t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s membres del subgrup. Representarà el 10% de la not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288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38240" y="1878120"/>
            <a:ext cx="8856360" cy="46051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El secret profes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ordinador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Presentació (5 minut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nents A (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Concepte i importància del secret professional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eneral (15 minuts). Un ponent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farà la presentació,  l’altre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iscussió final 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nents B (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Concepte i importància del secret profes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èdic  (15 minuts).  Un ponent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farà presentació, l’altre farà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iscussió final. (Sorteig abans de començar la pràctica)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294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08000" y="1628640"/>
            <a:ext cx="9005760" cy="47876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El secret profes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ca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Debat (3):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Qüestionar la informatització de la medicina i internet perquè no asseguren la confidencialitat. Un ponent dels 3 farà la presentació (15 minuts).  Els altres dos intervindran en la discussió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Debat (3)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:  La informatització es imprescindible tot i que fa mes difícil mantenir el secret professional. Un ponent dels 3 farà la presentaci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(15 minuts).  Els altres dos intervindran en la discussió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Discussió final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:                                         30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Resum coordinador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:                                  5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Comentaris del professor responsable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:    5 minuts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6 CuadroTexto"/>
          <p:cNvGrpSpPr/>
          <p:nvPr/>
        </p:nvGrpSpPr>
        <p:grpSpPr>
          <a:xfrm>
            <a:off x="3114720" y="1003320"/>
            <a:ext cx="2921040" cy="554040"/>
            <a:chOff x="3114720" y="1003320"/>
            <a:chExt cx="2921040" cy="554040"/>
          </a:xfrm>
        </p:grpSpPr>
        <p:pic>
          <p:nvPicPr>
            <p:cNvPr id="300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00332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143520" y="101772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Rectángulo"/>
          <p:cNvSpPr/>
          <p:nvPr/>
        </p:nvSpPr>
        <p:spPr>
          <a:xfrm>
            <a:off x="108000" y="1773360"/>
            <a:ext cx="4968720" cy="4451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La deontologi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el conjunt de les </a:t>
            </a:r>
            <a:r>
              <a:rPr b="1" lang="en-US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obligacions que els professionals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comprometen a respectar per </a:t>
            </a:r>
            <a:r>
              <a:rPr b="1" lang="en-US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garantir una pràctica conforme al codi d'ètica de la profess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de les diferències quan parlem de </a:t>
            </a:r>
            <a:r>
              <a:rPr b="1" lang="en-US" sz="2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"ètica"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en-US" sz="22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"deontologia"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que la primera fa referència a la </a:t>
            </a:r>
            <a:r>
              <a:rPr b="1" lang="en-US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consciència persona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entre que la segona adopta una funció de </a:t>
            </a:r>
            <a:r>
              <a:rPr b="1" lang="en-US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model d'actuació en l'àrea d'una col·lectivit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3572280" y="1030320"/>
            <a:ext cx="2000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Deont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197320" y="1773360"/>
            <a:ext cx="36226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38240" y="2049480"/>
            <a:ext cx="8856360" cy="44524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2.     Reproducció assist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ordinador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Presentació (5 minut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nents A (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Concepte,  tècniques i indicacions (15 minuts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n ponent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farà la presentació,  l’altre la  discussió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nents B (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Qüestions ètiques (identitat, confidencialitat, aspectes econòmics, etc.) (15 minuts).  Un ponent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farà presentació, l’altre farà la discussió final. (Sorteig abans de començar la pràctica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306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138240" y="1752480"/>
            <a:ext cx="8856360" cy="49701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2.     Reproducció assist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bat (3):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spectes ètics de la reproducció assistida, es com una actuació mèdica assistencial i per tant ha de ser finançada per la medicina pública?. Un ponent dels 3 farà la presentació (15 minuts). Els altres dos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bat (3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:  Aspectes ètics de la reproducció assistida, NO es com una actuació mèdica assistencial i per tant NO ha de ser finançada per la medicina pública?. Un ponent dels 3 farà la presentació  (15 minuts).  Els altres dos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iscussió fina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                                     30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sum coordinador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                              5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mentaris del Professor responsabl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5 minuts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312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38240" y="2108160"/>
            <a:ext cx="8856360" cy="43761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3.   Començament de l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Coordinador.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Presentació (5 minut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Ponents A (2)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:  Concepció, anticoncepció, la pindora de l'endemà (15 minuts). Un ponent 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farà la presentació,  l’altre la  discussió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Ponents B (2)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:  L’avortament (15 minuts).  Un ponent  </a:t>
            </a: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farà  la  presentació,  l’altre farà la discussió  final. (Sorteig abans de començar la pràctica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318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38240" y="1878120"/>
            <a:ext cx="8856360" cy="46807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3.   Començament de l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bat (3):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 favor de l’avortament (15 minuts). Un ponent dels 3 farà la presentació (15 minuts). Els altres dos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bat (3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: En contra del avortament. Un ponent dels 3 farà la presentació  (15 minuts).  Els altres dos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iscussió fina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                                     30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sum coordinador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                              5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mentaris del Professor responsabl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5 minuts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324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38240" y="2205000"/>
            <a:ext cx="8856360" cy="42998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4.   Autonomia del pacient i objecció de consciència del met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ordinador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Presentació (5 minut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nents A (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Autonomia del pacient, concepte (15 minuts). Un ponent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farà la presentació,  l’altre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nents B (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Objecció de consciència, concepte i situació legal (15 minuts).  Un ponent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farà  la  presentació,  l’altre  la discussió  final. (Sorteig abans de començar la pràctica)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330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38240" y="1990800"/>
            <a:ext cx="8856360" cy="46807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2d05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.   Autonomia del pacient i objecció de consciencia del met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bat (3):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 favor de l’avortament. Un ponent dels 3 farà la presentació (15 minuts).  Els altres dos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bat (3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: En contra del avortament. Un ponent dels 3 farà la presentació  (15 minuts).  Els altres dos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iscussió fina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                                     30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sum coordinador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                              5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mentaris del Professor responsabl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5 minuts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336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38240" y="1989000"/>
            <a:ext cx="8856360" cy="44524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5.   El final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ordinador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Presentació (5 minut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nents A (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Concepte de aferrissament terapèutic i de sedació (15 minuts).  Un ponent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farà la presentació,  l’altre la discussió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onents B (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Concepte de suïcidi assistit i de eutanàsia (15 minuts).  Un ponent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farà  la  presentació,  l’altre  la discussió  fina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Sorteig abans de començar la pràctica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342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138240" y="1990800"/>
            <a:ext cx="8856360" cy="46807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2d05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92d050"/>
                </a:solidFill>
                <a:latin typeface="Times New Roman"/>
              </a:rPr>
              <a:t>.   El final de l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bat (3):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 favor de l’avortament. Un ponent dels 3 farà la presentació (15 minuts).  Els altres dos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ebat (3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: En contra del avortament. Un ponent dels 3 farà la presentació  (15 minuts).  Els altres dos la discussió final. (Sorteig abans de començar la pràcti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iscussió fina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                                     30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sum coordinador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                              5 min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mentaris del Professor responsabl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   5 minuts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6 CuadroTexto"/>
          <p:cNvGrpSpPr/>
          <p:nvPr/>
        </p:nvGrpSpPr>
        <p:grpSpPr>
          <a:xfrm>
            <a:off x="3114720" y="1152360"/>
            <a:ext cx="2921040" cy="554040"/>
            <a:chOff x="3114720" y="1152360"/>
            <a:chExt cx="2921040" cy="554040"/>
          </a:xfrm>
        </p:grpSpPr>
        <p:pic>
          <p:nvPicPr>
            <p:cNvPr id="348" name="6 CuadroTexto" descr=""/>
            <p:cNvPicPr/>
            <p:nvPr/>
          </p:nvPicPr>
          <p:blipFill>
            <a:blip r:embed="rId1"/>
            <a:stretch/>
          </p:blipFill>
          <p:spPr>
            <a:xfrm>
              <a:off x="3114720" y="1152360"/>
              <a:ext cx="2921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144240" y="11667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àctiques d’a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38240" y="2266920"/>
            <a:ext cx="8856360" cy="37515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00"/>
                </a:solidFill>
                <a:latin typeface="Times New Roman"/>
              </a:rPr>
              <a:t> •   </a:t>
            </a: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Cada alumne com a treball individ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Prepararà i escriurà algun tema explicat a classe i que no formi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de les pràctiques d’aula amb un mínim de 5 planes i un màxim de 1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scrites  amb lletra :  Times New Roman 12 i amb  interlineat simple 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equivalent amb extensi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La avaluació del treball individual  representarà un 20% de la n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total 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6 CuadroTexto"/>
          <p:cNvGrpSpPr/>
          <p:nvPr/>
        </p:nvGrpSpPr>
        <p:grpSpPr>
          <a:xfrm>
            <a:off x="3090960" y="1152360"/>
            <a:ext cx="2962080" cy="554040"/>
            <a:chOff x="3090960" y="1152360"/>
            <a:chExt cx="2962080" cy="554040"/>
          </a:xfrm>
        </p:grpSpPr>
        <p:pic>
          <p:nvPicPr>
            <p:cNvPr id="354" name="6 CuadroTexto" descr=""/>
            <p:cNvPicPr/>
            <p:nvPr/>
          </p:nvPicPr>
          <p:blipFill>
            <a:blip r:embed="rId1"/>
            <a:stretch/>
          </p:blipFill>
          <p:spPr>
            <a:xfrm>
              <a:off x="3090960" y="1152360"/>
              <a:ext cx="2962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103200" y="1166760"/>
              <a:ext cx="293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ball individ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38240" y="1844640"/>
            <a:ext cx="8856360" cy="46663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Professora: Milagros Alon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  </a:t>
            </a:r>
            <a:r>
              <a:rPr b="1" lang="ca-E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Farmacòloga clínica.  Hospital de la Santa Creu i Sant P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-  Màster en Bioè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-  Presidenta del Comitè de Ètica Assistencial (CE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Professor: Marius Mor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-  Nefròleg.  Hospital de la Vall d’Hebr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-  Membre del C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-  President de la Comissió de Deontologia del COM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ca-ES" sz="2400" spc="-1" strike="noStrike">
                <a:solidFill>
                  <a:srgbClr val="92d050"/>
                </a:solidFill>
                <a:latin typeface="Times New Roman"/>
              </a:rPr>
              <a:t>Professor: Salvador Alti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92d050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92d050"/>
                </a:solidFill>
                <a:latin typeface="Times New Roman"/>
              </a:rPr>
              <a:t>-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Geriatra.  Hospital Germans Trias i Puj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f"/>
                </a:solidFill>
                <a:latin typeface="Times New Roman"/>
              </a:rPr>
              <a:t>-  Membre del C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5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6 CuadroTexto"/>
          <p:cNvGrpSpPr/>
          <p:nvPr/>
        </p:nvGrpSpPr>
        <p:grpSpPr>
          <a:xfrm>
            <a:off x="2408400" y="1152360"/>
            <a:ext cx="4327200" cy="554040"/>
            <a:chOff x="2408400" y="1152360"/>
            <a:chExt cx="4327200" cy="554040"/>
          </a:xfrm>
        </p:grpSpPr>
        <p:pic>
          <p:nvPicPr>
            <p:cNvPr id="360" name="6 CuadroTexto" descr=""/>
            <p:cNvPicPr/>
            <p:nvPr/>
          </p:nvPicPr>
          <p:blipFill>
            <a:blip r:embed="rId1"/>
            <a:stretch/>
          </p:blipFill>
          <p:spPr>
            <a:xfrm>
              <a:off x="2408400" y="1152360"/>
              <a:ext cx="43272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439360" y="1166760"/>
              <a:ext cx="42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 dels professo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1 Grupo"/>
          <p:cNvGrpSpPr/>
          <p:nvPr/>
        </p:nvGrpSpPr>
        <p:grpSpPr>
          <a:xfrm>
            <a:off x="69840" y="4937040"/>
            <a:ext cx="8888400" cy="1218240"/>
            <a:chOff x="69840" y="4937040"/>
            <a:chExt cx="8888400" cy="1218240"/>
          </a:xfrm>
        </p:grpSpPr>
        <p:sp>
          <p:nvSpPr>
            <p:cNvPr id="104" name="Text Box 4"/>
            <p:cNvSpPr/>
            <p:nvPr/>
          </p:nvSpPr>
          <p:spPr>
            <a:xfrm>
              <a:off x="2305080" y="4937040"/>
              <a:ext cx="6653160" cy="121824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ffff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* Posa límits i condicions a les biotecnolog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* Vetlla pel respecta a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* Vetlla pel respecta a la dignitat de  les pers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69840" y="5287680"/>
              <a:ext cx="1301760" cy="42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Bioè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"/>
            <p:cNvSpPr/>
            <p:nvPr/>
          </p:nvSpPr>
          <p:spPr>
            <a:xfrm flipV="1">
              <a:off x="1611360" y="5057280"/>
              <a:ext cx="529920" cy="266760"/>
            </a:xfrm>
            <a:prstGeom prst="line">
              <a:avLst/>
            </a:prstGeom>
            <a:ln w="28440">
              <a:solidFill>
                <a:srgbClr val="fffff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>
              <a:off x="1560240" y="5646600"/>
              <a:ext cx="631800" cy="291960"/>
            </a:xfrm>
            <a:prstGeom prst="line">
              <a:avLst/>
            </a:prstGeom>
            <a:ln w="28440">
              <a:solidFill>
                <a:srgbClr val="fffff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1563480" y="5494320"/>
              <a:ext cx="682560" cy="6120"/>
            </a:xfrm>
            <a:prstGeom prst="line">
              <a:avLst/>
            </a:prstGeom>
            <a:ln w="28440">
              <a:solidFill>
                <a:srgbClr val="fffff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3 Grupo"/>
          <p:cNvGrpSpPr/>
          <p:nvPr/>
        </p:nvGrpSpPr>
        <p:grpSpPr>
          <a:xfrm>
            <a:off x="76320" y="1979640"/>
            <a:ext cx="8881920" cy="2205720"/>
            <a:chOff x="76320" y="1979640"/>
            <a:chExt cx="8881920" cy="2205720"/>
          </a:xfrm>
        </p:grpSpPr>
        <p:sp>
          <p:nvSpPr>
            <p:cNvPr id="112" name="Text Box 3"/>
            <p:cNvSpPr/>
            <p:nvPr/>
          </p:nvSpPr>
          <p:spPr>
            <a:xfrm>
              <a:off x="2305080" y="1979640"/>
              <a:ext cx="6653160" cy="22057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ffff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* Beneficència   </a:t>
              </a: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            Actuar en benefici del pacien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* Autonomia</a:t>
              </a: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                   Respectar la voluntat i llibert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                                        </a:t>
              </a: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del pacien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* No maleficència</a:t>
              </a: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          Evitar tot allò dolent pel malal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*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Justícia  </a:t>
              </a: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                      Anteposar el be col·lectiu 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                                        </a:t>
              </a: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individual però donan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                                        </a:t>
              </a:r>
              <a:r>
                <a:rPr b="1" lang="en-US" sz="1800" spc="-1" strike="noStrike">
                  <a:solidFill>
                    <a:srgbClr val="fffff9"/>
                  </a:solidFill>
                  <a:latin typeface="Arial"/>
                </a:rPr>
                <a:t>cadascú el que corresp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76320" y="2361960"/>
              <a:ext cx="1371600" cy="109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ca-ES" sz="2000" spc="-1" strike="noStrike">
                  <a:solidFill>
                    <a:srgbClr val="ffff66"/>
                  </a:solidFill>
                  <a:latin typeface="Arial"/>
                </a:rPr>
                <a:t>Princip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0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r>
                <a:rPr b="1" lang="ca-ES" sz="2000" spc="-1" strike="noStrike">
                  <a:solidFill>
                    <a:srgbClr val="ffff66"/>
                  </a:solidFill>
                  <a:latin typeface="Arial"/>
                </a:rPr>
                <a:t>d´È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0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r>
                <a:rPr b="1" lang="ca-ES" sz="2000" spc="-1" strike="noStrike">
                  <a:solidFill>
                    <a:srgbClr val="ffff66"/>
                  </a:solidFill>
                  <a:latin typeface="Arial"/>
                </a:rPr>
                <a:t>Mèd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"/>
            <p:cNvSpPr/>
            <p:nvPr/>
          </p:nvSpPr>
          <p:spPr>
            <a:xfrm flipV="1">
              <a:off x="1620720" y="2204640"/>
              <a:ext cx="382320" cy="457200"/>
            </a:xfrm>
            <a:prstGeom prst="line">
              <a:avLst/>
            </a:prstGeom>
            <a:ln w="28440">
              <a:solidFill>
                <a:srgbClr val="fffff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 flipV="1">
              <a:off x="1709640" y="2621880"/>
              <a:ext cx="328320" cy="177480"/>
            </a:xfrm>
            <a:prstGeom prst="line">
              <a:avLst/>
            </a:prstGeom>
            <a:ln w="28440">
              <a:solidFill>
                <a:srgbClr val="fffff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1685880" y="3030120"/>
              <a:ext cx="371160" cy="237960"/>
            </a:xfrm>
            <a:prstGeom prst="line">
              <a:avLst/>
            </a:prstGeom>
            <a:ln w="28440">
              <a:solidFill>
                <a:srgbClr val="fffff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0"/>
            <p:cNvSpPr/>
            <p:nvPr/>
          </p:nvSpPr>
          <p:spPr>
            <a:xfrm>
              <a:off x="1625400" y="3304800"/>
              <a:ext cx="339480" cy="393480"/>
            </a:xfrm>
            <a:prstGeom prst="line">
              <a:avLst/>
            </a:prstGeom>
            <a:ln w="28440">
              <a:solidFill>
                <a:srgbClr val="fffff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>
              <a:off x="4343400" y="221292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4343400" y="251784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4343400" y="312732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4343400" y="343224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3 CuadroTexto"/>
          <p:cNvSpPr/>
          <p:nvPr/>
        </p:nvSpPr>
        <p:spPr>
          <a:xfrm>
            <a:off x="1803960" y="1050840"/>
            <a:ext cx="55389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Principis de la Ètica i de la Bioè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7320" y="1741320"/>
            <a:ext cx="8856360" cy="13222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964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-  L´objectiu de la medicina es la persona i sobre tot la persona mal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964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-  Quant és perd la salut o es pensa que l´ha perduda, tota la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persona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se´n ress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27080" y="3492360"/>
            <a:ext cx="5381640" cy="317448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- Tot seguit busca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ajuda per assolir 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normalitat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i ho fa amb un altre pers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que creu amb els coneixements sufic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per aconseguir l´objecti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- S´estableix la relació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metge – malalt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t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antiga com l´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9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http://www.humorspain.com/wp-content/uploads/2010/12/chiste-grafico-doctor.jpg"/>
          <p:cNvPicPr/>
          <p:nvPr/>
        </p:nvPicPr>
        <p:blipFill>
          <a:blip r:embed="rId1"/>
          <a:stretch/>
        </p:blipFill>
        <p:spPr>
          <a:xfrm>
            <a:off x="5614920" y="3492360"/>
            <a:ext cx="3421080" cy="3176640"/>
          </a:xfrm>
          <a:prstGeom prst="rect">
            <a:avLst/>
          </a:prstGeom>
          <a:ln w="0">
            <a:noFill/>
          </a:ln>
        </p:spPr>
      </p:pic>
      <p:sp>
        <p:nvSpPr>
          <p:cNvPr id="128" name="3 CuadroTexto"/>
          <p:cNvSpPr/>
          <p:nvPr/>
        </p:nvSpPr>
        <p:spPr>
          <a:xfrm>
            <a:off x="2661840" y="1052640"/>
            <a:ext cx="38232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Objectiu de 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08000" y="1708200"/>
            <a:ext cx="5327640" cy="24980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1514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Arial"/>
              </a:rPr>
              <a:t>-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La relació metge-pacient es una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relació entre persones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, relacions que mai son senzil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514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-  La socialització de la medicina ha estat un avanç important, però ha trastocat al menys en part la relació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malalt-met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8000" y="4478400"/>
            <a:ext cx="5400720" cy="20750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-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Relació que de personal i confia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(potser a vegades un  xic prepotent) h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passat a un altre en que sovint el paci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veu al  metge com a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represent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     </a:t>
            </a:r>
            <a:r>
              <a:rPr b="1" lang="ca-ES" sz="2200" spc="-1" strike="noStrike">
                <a:solidFill>
                  <a:srgbClr val="99ff99"/>
                </a:solidFill>
                <a:latin typeface="Times New Roman"/>
              </a:rPr>
              <a:t>interessat de l´entitat gesto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8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http://4.bp.blogspot.com/_YaZrT9JvC78/SK6vExuYCtI/AAAAAAAAAAs/tNf_LR5cH3E/s320/med-pac.gif"/>
          <p:cNvPicPr/>
          <p:nvPr/>
        </p:nvPicPr>
        <p:blipFill>
          <a:blip r:embed="rId1"/>
          <a:stretch/>
        </p:blipFill>
        <p:spPr>
          <a:xfrm>
            <a:off x="5651640" y="4390920"/>
            <a:ext cx="151740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ttp://4.bp.blogspot.com/_MHFHb7j_0l8/Sh4yjjTZc8I/AAAAAAAABZE/iTmzdLOI0UY/s400/ciencia-caridad-1897-barcelona-pt.jpg"/>
          <p:cNvPicPr/>
          <p:nvPr/>
        </p:nvPicPr>
        <p:blipFill>
          <a:blip r:embed="rId2"/>
          <a:stretch/>
        </p:blipFill>
        <p:spPr>
          <a:xfrm>
            <a:off x="5508720" y="1704960"/>
            <a:ext cx="3581280" cy="2516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www.adrformacion.com/udsimg/atencionp/1/paciente2.jpg"/>
          <p:cNvPicPr/>
          <p:nvPr/>
        </p:nvPicPr>
        <p:blipFill>
          <a:blip r:embed="rId3"/>
          <a:stretch/>
        </p:blipFill>
        <p:spPr>
          <a:xfrm>
            <a:off x="7359480" y="4390920"/>
            <a:ext cx="1684440" cy="2243160"/>
          </a:xfrm>
          <a:prstGeom prst="rect">
            <a:avLst/>
          </a:prstGeom>
          <a:ln w="0">
            <a:noFill/>
          </a:ln>
        </p:spPr>
      </p:pic>
      <p:sp>
        <p:nvSpPr>
          <p:cNvPr id="136" name="3 CuadroTexto"/>
          <p:cNvSpPr/>
          <p:nvPr/>
        </p:nvSpPr>
        <p:spPr>
          <a:xfrm>
            <a:off x="2721960" y="1033560"/>
            <a:ext cx="37026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Relació metge - pa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541600" y="1671480"/>
            <a:ext cx="655164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* Pacte tàcit societat – me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* Metge responsable salut individual i col·l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9"/>
                </a:solidFill>
                <a:latin typeface="Arial"/>
              </a:rPr>
              <a:t>*  a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470400" y="2604960"/>
            <a:ext cx="488628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9"/>
              </a:buClr>
              <a:buSzPct val="60000"/>
              <a:buFont typeface="Monotype Sort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9"/>
                </a:solidFill>
                <a:latin typeface="Arial"/>
              </a:rPr>
              <a:t>Pràctica privada (honorar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fffff9"/>
              </a:buClr>
              <a:buSzPct val="60000"/>
              <a:buFont typeface="Monotype Sort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9"/>
                </a:solidFill>
                <a:latin typeface="Arial"/>
              </a:rPr>
              <a:t>Pràctica gratuï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29000" y="4038480"/>
            <a:ext cx="633888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9"/>
                </a:solidFill>
                <a:latin typeface="Arial"/>
              </a:rPr>
              <a:t>* El p</a:t>
            </a: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acte tàcit es trenca parcia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* Alguns metges (beneficis abusi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* Majoria de metges (responsabilitat in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   </a:t>
            </a: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no evitar aquestes pràctiques abus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* No</a:t>
            </a:r>
            <a:r>
              <a:rPr b="1" lang="es-ES_tradnl" sz="1800" spc="-1" strike="noStrike">
                <a:solidFill>
                  <a:srgbClr val="fffff9"/>
                </a:solidFill>
                <a:latin typeface="Arial"/>
              </a:rPr>
              <a:t>ves </a:t>
            </a:r>
            <a:r>
              <a:rPr b="1" lang="ca-ES" sz="1800" spc="-1" strike="noStrike">
                <a:solidFill>
                  <a:srgbClr val="fffff9"/>
                </a:solidFill>
                <a:latin typeface="Arial"/>
              </a:rPr>
              <a:t>corrents so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41400" y="1984320"/>
            <a:ext cx="2418840" cy="1205640"/>
            <a:chOff x="41400" y="1984320"/>
            <a:chExt cx="2418840" cy="1205640"/>
          </a:xfrm>
        </p:grpSpPr>
        <p:sp>
          <p:nvSpPr>
            <p:cNvPr id="141" name="Text Box 7"/>
            <p:cNvSpPr/>
            <p:nvPr/>
          </p:nvSpPr>
          <p:spPr>
            <a:xfrm>
              <a:off x="41400" y="2181240"/>
              <a:ext cx="1869120" cy="10087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SzPct val="60000"/>
                <a:buFont typeface="Wingdings" charset="2"/>
                <a:buChar char="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gle XIX</a:t>
              </a:r>
              <a:r>
                <a:rPr b="1" lang="en-US" sz="2000" spc="-1" strike="noStrike">
                  <a:solidFill>
                    <a:srgbClr val="fffff9"/>
                  </a:solidFill>
                  <a:latin typeface="Arial"/>
                </a:rPr>
                <a:t>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 flipV="1">
              <a:off x="2046960" y="1984320"/>
              <a:ext cx="413280" cy="44928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046960" y="2516040"/>
              <a:ext cx="413280" cy="35388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>
              <a:off x="2046960" y="2447640"/>
              <a:ext cx="413280" cy="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76320" y="4146480"/>
            <a:ext cx="2487240" cy="1884240"/>
            <a:chOff x="76320" y="4146480"/>
            <a:chExt cx="2487240" cy="1884240"/>
          </a:xfrm>
        </p:grpSpPr>
        <p:sp>
          <p:nvSpPr>
            <p:cNvPr id="146" name="Text Box 12"/>
            <p:cNvSpPr/>
            <p:nvPr/>
          </p:nvSpPr>
          <p:spPr>
            <a:xfrm>
              <a:off x="76320" y="4595760"/>
              <a:ext cx="1909080" cy="10087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SzPct val="60000"/>
                <a:buFont typeface="Wingdings" charset="2"/>
                <a:buChar char="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gle XX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V="1">
              <a:off x="2016360" y="4146480"/>
              <a:ext cx="546120" cy="50472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V="1">
              <a:off x="2041920" y="4655880"/>
              <a:ext cx="509400" cy="19080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2041920" y="5056200"/>
              <a:ext cx="496440" cy="15084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>
              <a:off x="2041920" y="5238720"/>
              <a:ext cx="521640" cy="792000"/>
            </a:xfrm>
            <a:prstGeom prst="line">
              <a:avLst/>
            </a:prstGeom>
            <a:ln w="38160">
              <a:solidFill>
                <a:srgbClr val="fffff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17"/>
          <p:cNvSpPr/>
          <p:nvPr/>
        </p:nvSpPr>
        <p:spPr>
          <a:xfrm>
            <a:off x="3386160" y="2666880"/>
            <a:ext cx="98280" cy="928800"/>
          </a:xfrm>
          <a:custGeom>
            <a:avLst/>
            <a:gdLst>
              <a:gd name="textAreaLeft" fmla="*/ 63000 w 98280"/>
              <a:gd name="textAreaRight" fmla="*/ 98640 w 9828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019920" y="5867280"/>
            <a:ext cx="2882880" cy="7995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9"/>
              </a:buClr>
              <a:buSzPct val="60000"/>
              <a:buFont typeface="Monotype Sort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9"/>
                </a:solidFill>
                <a:latin typeface="Arial"/>
              </a:rPr>
              <a:t>Socialitzaci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fffff9"/>
              </a:buClr>
              <a:buSzPct val="60000"/>
              <a:buFont typeface="Monotype Sort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9"/>
                </a:solidFill>
                <a:latin typeface="Arial"/>
              </a:rPr>
              <a:t>Intermediació sanità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V="1">
            <a:off x="5575320" y="6030720"/>
            <a:ext cx="279360" cy="176040"/>
          </a:xfrm>
          <a:prstGeom prst="line">
            <a:avLst/>
          </a:prstGeom>
          <a:ln w="38160">
            <a:solidFill>
              <a:srgbClr val="ffff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5562720" y="6361200"/>
            <a:ext cx="279360" cy="109440"/>
          </a:xfrm>
          <a:prstGeom prst="line">
            <a:avLst/>
          </a:prstGeom>
          <a:ln w="38160">
            <a:solidFill>
              <a:srgbClr val="ffff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084720" y="3048120"/>
            <a:ext cx="2678400" cy="71172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9"/>
              </a:buClr>
              <a:buSzPct val="60000"/>
              <a:buFont typeface="Monotype Sort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9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fffff9"/>
              </a:buClr>
              <a:buSzPct val="60000"/>
              <a:buFont typeface="Monotype Sorts" charset="2"/>
              <a:buChar char="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9"/>
                </a:solidFill>
                <a:latin typeface="Arial"/>
              </a:rPr>
              <a:t>Hospitals de beneficè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5573880" y="3228480"/>
            <a:ext cx="363240" cy="174600"/>
          </a:xfrm>
          <a:prstGeom prst="line">
            <a:avLst/>
          </a:prstGeom>
          <a:ln w="38160">
            <a:solidFill>
              <a:srgbClr val="ffff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5573880" y="3471840"/>
            <a:ext cx="363240" cy="108000"/>
          </a:xfrm>
          <a:prstGeom prst="line">
            <a:avLst/>
          </a:prstGeom>
          <a:ln w="38160">
            <a:solidFill>
              <a:srgbClr val="ffff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7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CuadroTexto"/>
          <p:cNvSpPr/>
          <p:nvPr/>
        </p:nvSpPr>
        <p:spPr>
          <a:xfrm>
            <a:off x="2721960" y="1033560"/>
            <a:ext cx="37026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Relació metge - pa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Text Box 3"/>
          <p:cNvGrpSpPr/>
          <p:nvPr/>
        </p:nvGrpSpPr>
        <p:grpSpPr>
          <a:xfrm>
            <a:off x="2335320" y="1017720"/>
            <a:ext cx="4632120" cy="725400"/>
            <a:chOff x="2335320" y="1017720"/>
            <a:chExt cx="4632120" cy="725400"/>
          </a:xfrm>
        </p:grpSpPr>
        <p:pic>
          <p:nvPicPr>
            <p:cNvPr id="162" name="Text Box 3" descr=""/>
            <p:cNvPicPr/>
            <p:nvPr/>
          </p:nvPicPr>
          <p:blipFill>
            <a:blip r:embed="rId1"/>
            <a:stretch/>
          </p:blipFill>
          <p:spPr>
            <a:xfrm>
              <a:off x="2335320" y="1017720"/>
              <a:ext cx="46321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351160" y="1197000"/>
              <a:ext cx="444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Relació metge - paci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Object 4" descr=""/>
          <p:cNvPicPr/>
          <p:nvPr/>
        </p:nvPicPr>
        <p:blipFill>
          <a:blip r:embed="rId2"/>
          <a:stretch/>
        </p:blipFill>
        <p:spPr>
          <a:xfrm>
            <a:off x="3192480" y="2514600"/>
            <a:ext cx="29034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5"/>
          <p:cNvGrpSpPr/>
          <p:nvPr/>
        </p:nvGrpSpPr>
        <p:grpSpPr>
          <a:xfrm>
            <a:off x="601560" y="4292640"/>
            <a:ext cx="2830680" cy="2376000"/>
            <a:chOff x="601560" y="4292640"/>
            <a:chExt cx="2830680" cy="2376000"/>
          </a:xfrm>
        </p:grpSpPr>
        <p:sp>
          <p:nvSpPr>
            <p:cNvPr id="166" name="Text Box 6"/>
            <p:cNvSpPr/>
            <p:nvPr/>
          </p:nvSpPr>
          <p:spPr>
            <a:xfrm>
              <a:off x="601560" y="5133600"/>
              <a:ext cx="2830680" cy="153504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Finançad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buClr>
                  <a:srgbClr val="fffff9"/>
                </a:buClr>
                <a:buSzPct val="60000"/>
                <a:buFont typeface="Monotype Sorts" charset="2"/>
                <a:buChar char="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Públ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buClr>
                  <a:srgbClr val="fffff9"/>
                </a:buClr>
                <a:buSzPct val="60000"/>
                <a:buFont typeface="Monotype Sorts" charset="2"/>
                <a:buChar char="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Priv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 flipV="1">
              <a:off x="2046240" y="4292640"/>
              <a:ext cx="595440" cy="655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4932360" y="4220640"/>
            <a:ext cx="4032000" cy="2477160"/>
            <a:chOff x="4932360" y="4220640"/>
            <a:chExt cx="4032000" cy="2477160"/>
          </a:xfrm>
        </p:grpSpPr>
        <p:sp>
          <p:nvSpPr>
            <p:cNvPr id="169" name="Text Box 9"/>
            <p:cNvSpPr/>
            <p:nvPr/>
          </p:nvSpPr>
          <p:spPr>
            <a:xfrm>
              <a:off x="4932360" y="5089320"/>
              <a:ext cx="4032000" cy="160848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Tecnificació:</a:t>
              </a: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fffff9"/>
                </a:buClr>
                <a:buSzPct val="60000"/>
                <a:buFont typeface="Monotype Sorts" charset="2"/>
                <a:buChar char="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Organització assist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fffff9"/>
                </a:buClr>
                <a:buSzPct val="60000"/>
                <a:buFont typeface="Monotype Sorts" charset="2"/>
                <a:buChar char="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Hospit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 flipH="1" flipV="1">
              <a:off x="6297840" y="4220640"/>
              <a:ext cx="633960" cy="66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"/>
          <p:cNvGrpSpPr/>
          <p:nvPr/>
        </p:nvGrpSpPr>
        <p:grpSpPr>
          <a:xfrm>
            <a:off x="6424560" y="2025720"/>
            <a:ext cx="2253960" cy="1438200"/>
            <a:chOff x="6424560" y="2025720"/>
            <a:chExt cx="2253960" cy="1438200"/>
          </a:xfrm>
        </p:grpSpPr>
        <p:sp>
          <p:nvSpPr>
            <p:cNvPr id="172" name="Text Box 13"/>
            <p:cNvSpPr/>
            <p:nvPr/>
          </p:nvSpPr>
          <p:spPr>
            <a:xfrm>
              <a:off x="7099200" y="2025720"/>
              <a:ext cx="1579320" cy="104436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9"/>
                  </a:solidFill>
                  <a:latin typeface="Times New Roman"/>
                  <a:ea typeface="Times New Roman"/>
                </a:rPr>
                <a:t>Canvi  d’actitu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 flipH="1">
              <a:off x="6424560" y="2973600"/>
              <a:ext cx="49032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214200" y="2022480"/>
            <a:ext cx="2397240" cy="1447560"/>
            <a:chOff x="214200" y="2022480"/>
            <a:chExt cx="2397240" cy="1447560"/>
          </a:xfrm>
        </p:grpSpPr>
        <p:grpSp>
          <p:nvGrpSpPr>
            <p:cNvPr id="175" name="Group 16"/>
            <p:cNvGrpSpPr/>
            <p:nvPr/>
          </p:nvGrpSpPr>
          <p:grpSpPr>
            <a:xfrm>
              <a:off x="214200" y="2022480"/>
              <a:ext cx="2397240" cy="1447560"/>
              <a:chOff x="214200" y="2022480"/>
              <a:chExt cx="2397240" cy="1447560"/>
            </a:xfrm>
          </p:grpSpPr>
          <p:sp>
            <p:nvSpPr>
              <p:cNvPr id="176" name="Text Box 17"/>
              <p:cNvSpPr/>
              <p:nvPr/>
            </p:nvSpPr>
            <p:spPr>
              <a:xfrm>
                <a:off x="214200" y="2022480"/>
                <a:ext cx="1906560" cy="1044360"/>
              </a:xfrm>
              <a:prstGeom prst="rect">
                <a:avLst/>
              </a:prstGeom>
              <a:solidFill>
                <a:srgbClr val="00006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285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9"/>
                    </a:solidFill>
                    <a:latin typeface="Times New Roman"/>
                    <a:ea typeface="Times New Roman"/>
                  </a:rPr>
                  <a:t>Autonomia del pac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2163600" y="3022560"/>
                <a:ext cx="447840" cy="447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19"/>
            <p:cNvSpPr/>
            <p:nvPr/>
          </p:nvSpPr>
          <p:spPr>
            <a:xfrm flipV="1">
              <a:off x="345960" y="2193840"/>
              <a:ext cx="0" cy="41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2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250920" y="2406600"/>
            <a:ext cx="8610480" cy="38793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a-ES" sz="2800" spc="-1" strike="noStrike">
                <a:solidFill>
                  <a:srgbClr val="ffff00"/>
                </a:solidFill>
                <a:latin typeface="Times New Roman"/>
              </a:rPr>
              <a:t>Deontologia</a:t>
            </a: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es l’Ètica aplicada a una professi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	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“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Deon” (grec) </a:t>
            </a:r>
            <a:r>
              <a:rPr b="1" lang="ca-ES" sz="2200" spc="-1" strike="noStrike">
                <a:solidFill>
                  <a:srgbClr val="fffff9"/>
                </a:solidFill>
                <a:latin typeface="Wingdings"/>
                <a:ea typeface="Wingdings"/>
              </a:rPr>
              <a:t>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«el que cal fer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a-ES" sz="2800" spc="-1" strike="noStrike">
                <a:solidFill>
                  <a:srgbClr val="ffff00"/>
                </a:solidFill>
                <a:latin typeface="Times New Roman"/>
              </a:rPr>
              <a:t>Deontologia Mèdica</a:t>
            </a:r>
            <a:r>
              <a:rPr b="1" lang="ca-ES" sz="2800" spc="-1" strike="noStrike">
                <a:solidFill>
                  <a:srgbClr val="fffff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9"/>
                </a:solidFill>
                <a:latin typeface="Times New Roman"/>
              </a:rPr>
              <a:t>   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Sèrie de normes aprovades i acceptades pel col·lectiu mèdic 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   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estableix un codi de conduc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a-ES" sz="2800" spc="-1" strike="noStrike">
                <a:solidFill>
                  <a:srgbClr val="ffff00"/>
                </a:solidFill>
                <a:latin typeface="Times New Roman"/>
              </a:rPr>
              <a:t>Les Normes de Deontologia son normes legals 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ca-ES" sz="2800" spc="-1" strike="noStrike">
                <a:solidFill>
                  <a:srgbClr val="ffff00"/>
                </a:solidFill>
                <a:latin typeface="Times New Roman"/>
              </a:rPr>
              <a:t>obligat compli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9"/>
                </a:solidFill>
                <a:latin typeface="Times New Roman"/>
              </a:rPr>
              <a:t>     </a:t>
            </a:r>
            <a:r>
              <a:rPr b="1" lang="ca-ES" sz="2200" spc="-1" strike="noStrike">
                <a:solidFill>
                  <a:srgbClr val="fffff9"/>
                </a:solidFill>
                <a:latin typeface="Times New Roman"/>
              </a:rPr>
              <a:t>(Tribunal Constitucional. Sentencia 21 de Desembre, 219/198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0" y="903240"/>
            <a:ext cx="914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 CuadroTexto"/>
          <p:cNvSpPr/>
          <p:nvPr/>
        </p:nvSpPr>
        <p:spPr>
          <a:xfrm>
            <a:off x="673200" y="396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Presentació assignatura Bioètica i comunica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Dinàmica de les pràctiques d’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500280" y="1360440"/>
            <a:ext cx="2141640" cy="520560"/>
          </a:xfrm>
          <a:prstGeom prst="rect">
            <a:avLst/>
          </a:prstGeom>
          <a:solidFill>
            <a:srgbClr val="0e0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ce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7:53:18Z</dcterms:created>
  <dc:creator>J. Monés</dc:creator>
  <dc:description/>
  <dc:language>en-US</dc:language>
  <cp:lastModifiedBy>docent</cp:lastModifiedBy>
  <dcterms:modified xsi:type="dcterms:W3CDTF">2011-02-16T11:17:06Z</dcterms:modified>
  <cp:revision>139</cp:revision>
  <dc:subject/>
  <dc:title>CODI PRESENTACIÖ</dc:title>
</cp:coreProperties>
</file>